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2D90-E4BC-46EC-9D55-6C93ED5D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979-453F-498F-B378-6D2AC583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A8F-05C3-4B04-BCB6-C7B6A115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461-CCE8-4E0B-AD6D-FF4852E0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2A11-D66D-4A82-B3B4-56A8AABC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811F-B7FE-43CA-A5C2-858D309E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D578-7989-4CA3-9299-0E568E33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1AC0-08E1-4583-AA62-38F04352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C786-DDC9-4990-86DD-40BAB273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624F-858A-414F-B1E0-F7093AF6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BEFF-3516-48B4-9314-7DC3ADC0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1D0-4F3C-4D57-AFE7-68FD3070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4542-D462-44A3-B2C4-E865E64D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2930-B1D5-4A3F-835A-F63FB636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32D6-A417-4934-81AC-2BFDE89B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96D6-E4B9-47D5-8F67-46E6797C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4A25-C431-4A54-9B5A-5110AA35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EF5-47ED-4D04-9CC0-7AE4BEFD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D4B-D5D6-4469-A3F7-26E28E3C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359-1836-4932-84FD-8D88BE1B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5FE-224B-4806-9E6C-D56B1515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2CE-A3E9-44D0-A73E-4A894EA0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849-7F94-47E6-8623-5E816626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A45-50A4-4FC1-B2ED-AC2FFA35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64D1-A056-439A-9451-801D69589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D38C-2EA2-4691-9216-053ED4F262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08628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cc"/>
                </a:solidFill>
                <a:latin typeface="Times New Roman"/>
              </a:rPr>
              <a:t>Marcus et Ancill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mnes serv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villa dormiu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d ancil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n dormit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rti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 villa ambula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revi tempor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 rivum curri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gnam arbore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pe rivu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pici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fessa es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es est calidu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 arbore sedet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cilla Marcu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n vide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borem ascendi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cilla sollicita es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bi est Marcus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cus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I. (Ch. 1-5) Ancilla, a Slave Gir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cus sollicitus est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od ancillam ama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52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cus est Romanus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d ancilla est Britannica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cus est filius senatoris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cilla est filia servi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r est Marcus sollicitus?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ter Marc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 senator Romanus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ter ancilla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 servus Britannicu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cus solu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 arbore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pe rivum ambula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revi tempor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cillam conspici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cilla so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 arbore sede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cus voca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cilla . .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II. (Ch. 1-6) MAGNA ARBOR, the Big Tree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cilla sola es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die dies est calidus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7:08:02Z</dcterms:created>
  <dc:creator>HP Authorized Customer</dc:creator>
  <dc:description/>
  <dc:language>en-US</dc:language>
  <cp:lastModifiedBy>HP Authorized Customer</cp:lastModifiedBy>
  <dcterms:modified xsi:type="dcterms:W3CDTF">2008-10-25T07:01:02Z</dcterms:modified>
  <cp:revision>14</cp:revision>
  <dc:subject/>
  <dc:title>Slide 1</dc:title>
</cp:coreProperties>
</file>